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5E6-9010-45ED-87E7-AAD28B4D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CD4-990F-4940-A885-B8590836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841-1F0B-4BFA-9224-8153339E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8DB-3C96-4F19-9E30-8A58F7FE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811-6EFC-4B32-BC99-8AC648EA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776-C2F8-4053-A36D-47C4F47C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30E-1040-48F2-95B8-C264A9BC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ADC-D2ED-4211-A4C2-A7DBB791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9DD-F9AC-4A60-A053-FA54E7D1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2E0-4A2B-458C-BF8F-FABF7558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82B-926B-4BBD-AC85-531A0FC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A11-48B2-4BED-ACCA-A9F2A284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3C33-2050-4321-BC4A-B0407AC209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ohort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7315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696440" cy="281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7696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4953240" cy="85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400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696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943600" cy="1067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95280" y="3048120"/>
            <a:ext cx="5943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708660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2590920"/>
            <a:ext cx="155412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1067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3048120"/>
            <a:ext cx="7086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60958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08660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8120" y="2743200"/>
            <a:ext cx="155412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362320" y="3429000"/>
            <a:ext cx="3504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08660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7010640" cy="152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10080" y="2514600"/>
            <a:ext cx="2438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335268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440" y="3703680"/>
            <a:ext cx="309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ereas RR is 2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086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934320" y="5715000"/>
            <a:ext cx="15238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472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238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19:44Z</dcterms:modified>
  <cp:revision>214</cp:revision>
  <dc:subject/>
  <dc:title>Slide 1</dc:title>
</cp:coreProperties>
</file>